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F27-9557-407F-B5A7-69687533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DAE-942D-40DF-A12B-D5B5744B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CD6-F58C-4894-AFBF-9E0948A5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583-9B60-48D6-B73F-DE405E0B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41E-3606-4514-95F7-AA2C6A96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4BE-8572-4629-830E-F0E8404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24D-92ED-401F-93D6-BE18D08A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127A-7E04-49B4-897C-CB51FDDD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F7D6-84C4-4EA3-9A14-352CA238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F75-47B0-40F4-89C5-0FB0BC18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2206-FF40-42A7-ABE1-85C6467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FD7-60DC-48D5-BB1B-DCABFD54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C124-2505-417F-8B74-B8BC4CB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258-31AB-4AE0-B4CC-DED09DF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1CAE-AC20-45E5-8079-CC69185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CBCD-C427-4E0A-BB6F-EB2921D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DA7B-57FE-42F1-9E97-9C414B4A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D49-5B40-4597-82E2-BF65F14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671-4B11-460B-85D6-04B3C35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3C9-3DA7-4241-99A9-93F8D2E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FBA-FD17-4C0A-AE0C-78D48B15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A4F-3507-4784-A2E1-FF1B31E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7CB-2E50-4110-81E6-683E677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B44-8FF1-4361-A9F4-E505A14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43AE-81D0-4153-8236-F4CC7F297D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F25-69D4-4ABA-9F1F-1BDDDC08DA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renner.michael@kabelbw.de" TargetMode="External"/><Relationship Id="rId2" Type="http://schemas.openxmlformats.org/officeDocument/2006/relationships/hyperlink" Target="http://lehrerfortbildung-bw.de/faecher/physik/gym/fb2/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5280" y="1143000"/>
            <a:ext cx="7129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uterunterstützt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sswerterfassung und             -auswertu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 Schülerpraktik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G Physik - Modul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sches Methodenrepertoire der Phys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Renner, Dez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58436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soren und Experimentiermater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95280" y="2276640"/>
            <a:ext cx="611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Monotype Corsiva"/>
              </a:rPr>
              <a:t>Wer soll das bezahle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Monotype Corsiva"/>
              </a:rPr>
              <a:t>wer hat soooo viel Geld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1224000" cy="1841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4149720"/>
            <a:ext cx="2022480" cy="1974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soren und Experimentiermater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ns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s Kostengründen: Einsatz möglichst weniger Senso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UIP-Sen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Lux-Sen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Ultraschall-Bewegungssensor, Kombi-Lichtschranke mit Speichenrad, Magnetfeldsenso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iermaterial aus der Samm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bright="6000"/>
          </a:blip>
          <a:srcRect l="0" t="7146" r="0" b="7146"/>
          <a:stretch/>
        </p:blipFill>
        <p:spPr>
          <a:xfrm>
            <a:off x="6732720" y="2565360"/>
            <a:ext cx="171432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sstattung eines Schülerarbeitsplatz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Laptop mit Software CASS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Pocket-CAS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ensor oder mehrere Sens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s Experimentier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360" y="3787920"/>
            <a:ext cx="4176720" cy="2757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6560" y="654516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Überblick über die Versuch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bliche Schülerversuche, nun mit CAS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-I-Kennlinien von Gerä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ladevorgang eines Kondens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uche aus dem Unterricht, nun als Schülerversuche mit CAS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nschaltvorgang einer Sp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ektromagnetischer Schwingkre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hwingung eines Federpen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san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nschaltvorgang eines Glühlämpch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duktion durch einen rotierenden Magne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duktion und freier F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sante Anwendungen im erweiterten K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ergiesparlamp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rieb einer 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chtsens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ndere Messwerterfassungssyste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Versuche sind auch mit anderen Messwerterfassungssystemen durchführ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kript sowie der Lehrgang müssen jedoch entsprechend angepas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ndere Messwerterfassungs- und auswertesyst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PE-Vernier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LabPro,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abQuest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atex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Pasco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XplorerGLX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Pasco SPARK, …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hywe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bra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hrgang und Skrip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e und Auf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idaktische Begründu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407664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1411"/>
                </a:solidFill>
                <a:latin typeface="Arial"/>
              </a:rPr>
              <a:t>Hilf mir, es selbst zu t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1411"/>
                </a:solidFill>
                <a:latin typeface="Arial"/>
              </a:rPr>
              <a:t>(M. Montessor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773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einandersetzung mit 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r Erfassung und Auswertung der Messw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1773360"/>
            <a:ext cx="39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elle Fertigkeiten und Fähigkeiten der SuS – Umgang mit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700280"/>
            <a:ext cx="3958920" cy="1657440"/>
          </a:xfrm>
          <a:prstGeom prst="rect">
            <a:avLst/>
          </a:prstGeom>
          <a:solidFill>
            <a:srgbClr val="4f917e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1700280"/>
            <a:ext cx="3960720" cy="1657440"/>
          </a:xfrm>
          <a:prstGeom prst="rect">
            <a:avLst/>
          </a:prstGeom>
          <a:solidFill>
            <a:srgbClr val="4f917e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860640"/>
            <a:ext cx="6624720" cy="1800360"/>
          </a:xfrm>
          <a:prstGeom prst="rect">
            <a:avLst/>
          </a:prstGeom>
          <a:noFill/>
          <a:ln w="28440">
            <a:solidFill>
              <a:srgbClr val="4f9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ufbau des Lehrgan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91411"/>
                </a:solidFill>
                <a:latin typeface="Arial"/>
              </a:rPr>
              <a:t>Schri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lbstständiges Kennenlernen der Software unter Anl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91411"/>
                </a:solidFill>
                <a:latin typeface="Arial"/>
              </a:rPr>
              <a:t>Schri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esswertaufnahme und Auswertung der Messwerte zunächst unter Anleitung, danach mit mehr Selbstständigkeit und steigendem Schwierigkeitsg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91411"/>
                </a:solidFill>
                <a:latin typeface="Arial"/>
              </a:rPr>
              <a:t>Schri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lbstständiges Experimentieren und Auswerten unterrichtsbegleitend oder im Praktik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24640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8914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9640" y="142092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9640" y="29541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8914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9640" y="461628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er 1. Schritt - Einführu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blätter „Einführung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brauch des Pocket-CASSY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ysikunterrich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saufgabe oder Planarbeit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wnload der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lbstständige Erarbeitung von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rundlagen im Umgang mit d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 mit Anl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lbstdiagnoseb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Doppelstunde oder 90 min häusli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760" y="110340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00" y="27792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00" y="18111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0bf"/>
                </a:solidFill>
                <a:latin typeface="Wingdings"/>
                <a:ea typeface="Wingdings"/>
              </a:rPr>
              <a:t>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760" y="2573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00" y="347328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0bf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1714680"/>
            <a:ext cx="649080" cy="618840"/>
          </a:xfrm>
          <a:custGeom>
            <a:avLst/>
            <a:gdLst>
              <a:gd name="textAreaLeft" fmla="*/ 39960 w 649080"/>
              <a:gd name="textAreaRight" fmla="*/ 609120 w 649080"/>
              <a:gd name="textAreaTop" fmla="*/ 39960 h 618840"/>
              <a:gd name="textAreaBottom" fmla="*/ 578880 h 618840"/>
            </a:gdLst>
            <a:ahLst/>
            <a:rect l="textAreaLeft" t="textAreaTop" r="textAreaRight" b="textAreaBottom"/>
            <a:pathLst>
              <a:path w="22655" h="21600">
                <a:moveTo>
                  <a:pt x="0" y="0"/>
                </a:moveTo>
                <a:lnTo>
                  <a:pt x="22655" y="0"/>
                </a:lnTo>
                <a:lnTo>
                  <a:pt x="22655" y="21600"/>
                </a:lnTo>
                <a:lnTo>
                  <a:pt x="0" y="21600"/>
                </a:lnTo>
                <a:close/>
              </a:path>
              <a:path fill="lightenLess" w="22655" h="21600">
                <a:moveTo>
                  <a:pt x="0" y="0"/>
                </a:moveTo>
                <a:lnTo>
                  <a:pt x="22655" y="0"/>
                </a:lnTo>
                <a:lnTo>
                  <a:pt x="21255" y="1400"/>
                </a:lnTo>
                <a:lnTo>
                  <a:pt x="1400" y="1400"/>
                </a:lnTo>
                <a:close/>
              </a:path>
              <a:path fill="darken" w="22655" h="21600">
                <a:moveTo>
                  <a:pt x="22655" y="0"/>
                </a:moveTo>
                <a:lnTo>
                  <a:pt x="22655" y="21600"/>
                </a:lnTo>
                <a:lnTo>
                  <a:pt x="21255" y="20200"/>
                </a:lnTo>
                <a:lnTo>
                  <a:pt x="21255" y="1400"/>
                </a:lnTo>
                <a:close/>
              </a:path>
              <a:path fill="darkenLess" w="22655" h="21600">
                <a:moveTo>
                  <a:pt x="22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5" y="20200"/>
                </a:lnTo>
                <a:close/>
              </a:path>
              <a:path fill="lighten" w="22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655" h="21600">
                <a:moveTo>
                  <a:pt x="5801" y="3985"/>
                </a:moveTo>
                <a:lnTo>
                  <a:pt x="12798" y="3985"/>
                </a:lnTo>
                <a:lnTo>
                  <a:pt x="16854" y="7484"/>
                </a:lnTo>
                <a:lnTo>
                  <a:pt x="16854" y="17615"/>
                </a:lnTo>
                <a:lnTo>
                  <a:pt x="5801" y="17615"/>
                </a:lnTo>
                <a:close/>
              </a:path>
              <a:path fill="darken" w="22655" h="21600">
                <a:moveTo>
                  <a:pt x="12798" y="3985"/>
                </a:moveTo>
                <a:lnTo>
                  <a:pt x="16854" y="7484"/>
                </a:lnTo>
                <a:lnTo>
                  <a:pt x="12798" y="7484"/>
                </a:lnTo>
                <a:close/>
              </a:path>
            </a:pathLst>
          </a:cu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er 2. Schritt - Erarbeitu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blätter „Einführung in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rauch des Pocket-CASSY i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unterricht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 im Unter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 Messwertaufnah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Ohm‘scher Widerstand“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Anleitung des Leh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arbeit im Unterricht oder al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saufgabe (Messdatei auf USB-Sti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per E-Ma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 Auswertung der Messwe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Doppelstunde oder 60 min häusli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760" y="10288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8914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00" y="2030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00" y="1736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760" y="24987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00" y="33987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0bf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18360" y="1749600"/>
            <a:ext cx="611280" cy="568080"/>
          </a:xfrm>
          <a:custGeom>
            <a:avLst/>
            <a:gdLst>
              <a:gd name="textAreaLeft" fmla="*/ 36720 w 611280"/>
              <a:gd name="textAreaRight" fmla="*/ 574560 w 611280"/>
              <a:gd name="textAreaTop" fmla="*/ 36720 h 568080"/>
              <a:gd name="textAreaBottom" fmla="*/ 531360 h 568080"/>
            </a:gdLst>
            <a:ahLst/>
            <a:rect l="textAreaLeft" t="textAreaTop" r="textAreaRight" b="textAreaBottom"/>
            <a:pathLst>
              <a:path w="23242" h="21600">
                <a:moveTo>
                  <a:pt x="0" y="0"/>
                </a:moveTo>
                <a:lnTo>
                  <a:pt x="23242" y="0"/>
                </a:lnTo>
                <a:lnTo>
                  <a:pt x="23242" y="21600"/>
                </a:lnTo>
                <a:lnTo>
                  <a:pt x="0" y="21600"/>
                </a:lnTo>
                <a:close/>
              </a:path>
              <a:path fill="lightenLess" w="23242" h="21600">
                <a:moveTo>
                  <a:pt x="0" y="0"/>
                </a:moveTo>
                <a:lnTo>
                  <a:pt x="23242" y="0"/>
                </a:lnTo>
                <a:lnTo>
                  <a:pt x="21842" y="1400"/>
                </a:lnTo>
                <a:lnTo>
                  <a:pt x="1400" y="1400"/>
                </a:lnTo>
                <a:close/>
              </a:path>
              <a:path fill="darken" w="23242" h="21600">
                <a:moveTo>
                  <a:pt x="23242" y="0"/>
                </a:moveTo>
                <a:lnTo>
                  <a:pt x="23242" y="21600"/>
                </a:lnTo>
                <a:lnTo>
                  <a:pt x="21842" y="20200"/>
                </a:lnTo>
                <a:lnTo>
                  <a:pt x="21842" y="1400"/>
                </a:lnTo>
                <a:close/>
              </a:path>
              <a:path fill="darkenLess" w="23242" h="21600">
                <a:moveTo>
                  <a:pt x="23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2" y="20200"/>
                </a:lnTo>
                <a:close/>
              </a:path>
              <a:path fill="lighten" w="23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42" h="21600">
                <a:moveTo>
                  <a:pt x="6094" y="3985"/>
                </a:moveTo>
                <a:lnTo>
                  <a:pt x="13092" y="3985"/>
                </a:lnTo>
                <a:lnTo>
                  <a:pt x="17148" y="7484"/>
                </a:lnTo>
                <a:lnTo>
                  <a:pt x="17148" y="17615"/>
                </a:lnTo>
                <a:lnTo>
                  <a:pt x="6094" y="17615"/>
                </a:lnTo>
                <a:close/>
              </a:path>
              <a:path fill="darken" w="23242" h="21600">
                <a:moveTo>
                  <a:pt x="13092" y="3985"/>
                </a:moveTo>
                <a:lnTo>
                  <a:pt x="17148" y="7484"/>
                </a:lnTo>
                <a:lnTo>
                  <a:pt x="13092" y="7484"/>
                </a:lnTo>
                <a:close/>
              </a:path>
            </a:pathLst>
          </a:cu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Vortra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Bezug zum Bildungsplan und Zie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Begründung des Vorgeh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Lehrgang und Sk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Bezugsque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 Worksh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Abschlussrun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84960" y="277920"/>
            <a:ext cx="1401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er 2. Schritt – Erarbeitung und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nwendu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blätter „Einführung in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rauch des Pocket-CASSY i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unterrich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ktikum: „Kennlinien von Geräten“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ung mit interessan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sswerterfassung und –auswertung 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nehmender Selbstständigkeit u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igendem Schwierigkeitsg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-2 Doppelstunden + 90 min häusli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91411"/>
                </a:solidFill>
                <a:latin typeface="Arial"/>
              </a:rPr>
              <a:t>Fazit:</a:t>
            </a:r>
            <a:r>
              <a:rPr b="0" lang="de-DE" sz="2000" spc="-1" strike="noStrike">
                <a:solidFill>
                  <a:srgbClr val="891411"/>
                </a:solidFill>
                <a:latin typeface="Arial"/>
              </a:rPr>
              <a:t> Kompetenz „Selbstständiger Umgang mit einem Messwerterfassungs- und -auswertesystem“ sollte nun erworben se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760" y="10288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8914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00" y="2030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00" y="1736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" y="24987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00" y="33987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0bf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66080" y="1736640"/>
            <a:ext cx="720720" cy="654120"/>
          </a:xfrm>
          <a:custGeom>
            <a:avLst/>
            <a:gdLst>
              <a:gd name="textAreaLeft" fmla="*/ 42120 w 720720"/>
              <a:gd name="textAreaRight" fmla="*/ 678600 w 720720"/>
              <a:gd name="textAreaTop" fmla="*/ 42120 h 654120"/>
              <a:gd name="textAreaBottom" fmla="*/ 612000 h 654120"/>
            </a:gdLst>
            <a:ahLst/>
            <a:rect l="textAreaLeft" t="textAreaTop" r="textAreaRight" b="textAreaBottom"/>
            <a:pathLst>
              <a:path w="23798" h="21600">
                <a:moveTo>
                  <a:pt x="0" y="0"/>
                </a:moveTo>
                <a:lnTo>
                  <a:pt x="23798" y="0"/>
                </a:lnTo>
                <a:lnTo>
                  <a:pt x="23798" y="21600"/>
                </a:lnTo>
                <a:lnTo>
                  <a:pt x="0" y="21600"/>
                </a:lnTo>
                <a:close/>
              </a:path>
              <a:path fill="lightenLess" w="23798" h="21600">
                <a:moveTo>
                  <a:pt x="0" y="0"/>
                </a:moveTo>
                <a:lnTo>
                  <a:pt x="23798" y="0"/>
                </a:lnTo>
                <a:lnTo>
                  <a:pt x="22398" y="1400"/>
                </a:lnTo>
                <a:lnTo>
                  <a:pt x="1400" y="1400"/>
                </a:lnTo>
                <a:close/>
              </a:path>
              <a:path fill="darken" w="23798" h="21600">
                <a:moveTo>
                  <a:pt x="23798" y="0"/>
                </a:moveTo>
                <a:lnTo>
                  <a:pt x="23798" y="21600"/>
                </a:lnTo>
                <a:lnTo>
                  <a:pt x="22398" y="20200"/>
                </a:lnTo>
                <a:lnTo>
                  <a:pt x="22398" y="1400"/>
                </a:lnTo>
                <a:close/>
              </a:path>
              <a:path fill="darkenLess" w="23798" h="21600">
                <a:moveTo>
                  <a:pt x="23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8" y="20200"/>
                </a:lnTo>
                <a:close/>
              </a:path>
              <a:path fill="lighten" w="23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98" h="21600">
                <a:moveTo>
                  <a:pt x="6372" y="3985"/>
                </a:moveTo>
                <a:lnTo>
                  <a:pt x="13370" y="3985"/>
                </a:lnTo>
                <a:lnTo>
                  <a:pt x="17426" y="7484"/>
                </a:lnTo>
                <a:lnTo>
                  <a:pt x="17426" y="17615"/>
                </a:lnTo>
                <a:lnTo>
                  <a:pt x="6372" y="17615"/>
                </a:lnTo>
                <a:close/>
              </a:path>
              <a:path fill="darken" w="23798" h="21600">
                <a:moveTo>
                  <a:pt x="13370" y="3985"/>
                </a:moveTo>
                <a:lnTo>
                  <a:pt x="17426" y="7484"/>
                </a:lnTo>
                <a:lnTo>
                  <a:pt x="13370" y="7484"/>
                </a:lnTo>
                <a:close/>
              </a:path>
            </a:pathLst>
          </a:cu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aktikum: Kennlinien von Gerät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u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Der Ohm‘sche Wid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U-I-Kennlinie einer Glühlampe u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Glühfadentemp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Einschaltvorgang eines Glühlämpch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U-I-Kennlinie einer Bleistift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U-I-Kennlinie einer Halogenlampe 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leuchtungsstär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ercurricula für Kursstu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nüpfung zur Mittelstu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760" y="10288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8914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00" y="2030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400" y="1736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760" y="24987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00" y="33987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0bf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aktikum: Kennlinien von Gerät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844640"/>
            <a:ext cx="3025800" cy="1944720"/>
          </a:xfrm>
          <a:prstGeom prst="rect">
            <a:avLst/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einfac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wierige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1844640"/>
            <a:ext cx="3168720" cy="1873440"/>
          </a:xfrm>
          <a:prstGeom prst="rect">
            <a:avLst/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derho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füh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s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kalische Asp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38560" y="207972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3933720"/>
            <a:ext cx="33116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prungsge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gleichsge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eren von Form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le bere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tzung mehrerer Sens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72000" y="3933720"/>
            <a:ext cx="367200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ühfadentemper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schalten eines Lämp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höhung und Erniedr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pannung beim Lämp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eßende La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uchtungsstä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21200" y="2720880"/>
            <a:ext cx="1450800" cy="1212840"/>
          </a:xfrm>
          <a:prstGeom prst="downArrowCallout">
            <a:avLst>
              <a:gd name="adj1" fmla="val 29908"/>
              <a:gd name="adj2" fmla="val 29905"/>
              <a:gd name="adj3" fmla="val 16667"/>
              <a:gd name="adj4" fmla="val 66667"/>
            </a:avLst>
          </a:prstGeom>
          <a:solidFill>
            <a:srgbClr val="891411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bs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760" y="10288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8914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00" y="2030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" y="1736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1411"/>
                </a:solidFill>
                <a:latin typeface="Wingdings"/>
                <a:ea typeface="Wingdings"/>
              </a:rPr>
              <a:t>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760" y="24987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00" y="339876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0bf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er 3. Schritt – Anwendung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estigu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blätter im Ordner „Experimente“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wie Messdateien im Ordn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Messdat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richtsbegleitend oder Prak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ung von Schülerver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igung der Kenntniss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ähigkeiten im Umgang mit eine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sswerterfassungs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chliche Erkenntnisgewi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Versuche durch den Leh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 Versuch: ½ - 2 Doppelstun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häusliche Arbeits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4400" y="203040"/>
            <a:ext cx="900000" cy="3959640"/>
            <a:chOff x="14400" y="203040"/>
            <a:chExt cx="900000" cy="3959640"/>
          </a:xfrm>
        </p:grpSpPr>
        <p:sp>
          <p:nvSpPr>
            <p:cNvPr id="218" name=""/>
            <p:cNvSpPr/>
            <p:nvPr/>
          </p:nvSpPr>
          <p:spPr>
            <a:xfrm>
              <a:off x="104760" y="102852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0" y="20304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0" y="173628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4760" y="24984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00" y="339840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usgearbeitete Versuche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stungskennlinie einer 4,5-V-Batt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ieb einer L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cherheitshinwei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iesparlam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ladevorgang eines Kondens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chaltvorgang einer Sp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ktion bei rotierendem Magn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ktion und freier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magnetischer Schwingk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und Wi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wingung eines Federpen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400" y="203040"/>
            <a:ext cx="900000" cy="3959640"/>
            <a:chOff x="14400" y="203040"/>
            <a:chExt cx="900000" cy="3959640"/>
          </a:xfrm>
        </p:grpSpPr>
        <p:sp>
          <p:nvSpPr>
            <p:cNvPr id="227" name=""/>
            <p:cNvSpPr/>
            <p:nvPr/>
          </p:nvSpPr>
          <p:spPr>
            <a:xfrm>
              <a:off x="104760" y="102852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0" y="20304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0" y="173628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760" y="24984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0" y="339840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idaktische Aspekt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höhung der Selbstständ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öglichkeit für entdeckend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öglichkeiten für G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anleitungen (teils geleitet, teils off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dateien für jeden Versuch vorh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Anhang eines jeden Versuch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to des Versuchsaufba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sgewählte Lös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r Aspekt: </a:t>
            </a:r>
            <a:r>
              <a:rPr b="1" lang="en-US" sz="2400" spc="-1" strike="noStrike">
                <a:solidFill>
                  <a:srgbClr val="891411"/>
                </a:solidFill>
                <a:latin typeface="Arial"/>
              </a:rPr>
              <a:t>Modell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4400" y="203040"/>
            <a:ext cx="900000" cy="3959640"/>
            <a:chOff x="14400" y="203040"/>
            <a:chExt cx="900000" cy="3959640"/>
          </a:xfrm>
        </p:grpSpPr>
        <p:sp>
          <p:nvSpPr>
            <p:cNvPr id="236" name=""/>
            <p:cNvSpPr/>
            <p:nvPr/>
          </p:nvSpPr>
          <p:spPr>
            <a:xfrm>
              <a:off x="104760" y="102852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0" y="20304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0" y="173628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4760" y="24984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00" y="339840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39160" y="2844720"/>
            <a:ext cx="647640" cy="7495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49520"/>
              <a:gd name="textAreaBottom" fmla="*/ 707760 h 749520"/>
            </a:gdLst>
            <a:ahLst/>
            <a:rect l="textAreaLeft" t="textAreaTop" r="textAreaRight" b="textAreaBottom"/>
            <a:pathLst>
              <a:path w="21600" h="24996">
                <a:moveTo>
                  <a:pt x="0" y="0"/>
                </a:moveTo>
                <a:lnTo>
                  <a:pt x="21600" y="0"/>
                </a:lnTo>
                <a:lnTo>
                  <a:pt x="21600" y="24996"/>
                </a:lnTo>
                <a:lnTo>
                  <a:pt x="0" y="24996"/>
                </a:lnTo>
                <a:close/>
              </a:path>
              <a:path fill="lightenLess" w="21600" h="249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96">
                <a:moveTo>
                  <a:pt x="21600" y="0"/>
                </a:moveTo>
                <a:lnTo>
                  <a:pt x="21600" y="24996"/>
                </a:lnTo>
                <a:lnTo>
                  <a:pt x="20200" y="23596"/>
                </a:lnTo>
                <a:lnTo>
                  <a:pt x="20200" y="1400"/>
                </a:lnTo>
                <a:close/>
              </a:path>
              <a:path fill="darkenLess" w="21600" h="24996">
                <a:moveTo>
                  <a:pt x="21600" y="24996"/>
                </a:moveTo>
                <a:lnTo>
                  <a:pt x="0" y="24996"/>
                </a:lnTo>
                <a:lnTo>
                  <a:pt x="1400" y="23596"/>
                </a:lnTo>
                <a:lnTo>
                  <a:pt x="20200" y="23596"/>
                </a:lnTo>
                <a:close/>
              </a:path>
              <a:path fill="lighten" w="21600" h="24996">
                <a:moveTo>
                  <a:pt x="0" y="249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96"/>
                </a:lnTo>
                <a:close/>
              </a:path>
              <a:path fill="darkenLess" w="21600" h="24996">
                <a:moveTo>
                  <a:pt x="5273" y="5683"/>
                </a:moveTo>
                <a:lnTo>
                  <a:pt x="12271" y="5683"/>
                </a:lnTo>
                <a:lnTo>
                  <a:pt x="16327" y="9182"/>
                </a:lnTo>
                <a:lnTo>
                  <a:pt x="16327" y="19313"/>
                </a:lnTo>
                <a:lnTo>
                  <a:pt x="5273" y="19313"/>
                </a:lnTo>
                <a:close/>
              </a:path>
              <a:path fill="darken" w="21600" h="24996">
                <a:moveTo>
                  <a:pt x="12271" y="5683"/>
                </a:moveTo>
                <a:lnTo>
                  <a:pt x="16327" y="9182"/>
                </a:lnTo>
                <a:lnTo>
                  <a:pt x="12271" y="9182"/>
                </a:lnTo>
                <a:close/>
              </a:path>
            </a:pathLst>
          </a:cu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odellbildu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S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inschaltvorgang einer Sp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ladevorgang eines Kondens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wingung eines Federpen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lbildung Spule und Kondens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inschaltvorgang einer Sp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00" y="203040"/>
            <a:ext cx="900000" cy="3959640"/>
            <a:chOff x="14400" y="203040"/>
            <a:chExt cx="900000" cy="3959640"/>
          </a:xfrm>
        </p:grpSpPr>
        <p:sp>
          <p:nvSpPr>
            <p:cNvPr id="246" name=""/>
            <p:cNvSpPr/>
            <p:nvPr/>
          </p:nvSpPr>
          <p:spPr>
            <a:xfrm>
              <a:off x="104760" y="102852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00" y="20304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400" y="173628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4760" y="24984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8914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00" y="3398400"/>
              <a:ext cx="9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91411"/>
                  </a:solidFill>
                  <a:latin typeface="Wingdings"/>
                  <a:ea typeface="Wingdings"/>
                </a:rPr>
                <a:t>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99280" y="3933720"/>
            <a:ext cx="587520" cy="747720"/>
          </a:xfrm>
          <a:custGeom>
            <a:avLst/>
            <a:gdLst>
              <a:gd name="textAreaLeft" fmla="*/ 37800 w 587520"/>
              <a:gd name="textAreaRight" fmla="*/ 549720 w 587520"/>
              <a:gd name="textAreaTop" fmla="*/ 37800 h 747720"/>
              <a:gd name="textAreaBottom" fmla="*/ 709920 h 74772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Less" w="21600" h="27486">
                <a:moveTo>
                  <a:pt x="5273" y="6928"/>
                </a:moveTo>
                <a:lnTo>
                  <a:pt x="12271" y="6928"/>
                </a:lnTo>
                <a:lnTo>
                  <a:pt x="16327" y="10427"/>
                </a:lnTo>
                <a:lnTo>
                  <a:pt x="16327" y="20558"/>
                </a:lnTo>
                <a:lnTo>
                  <a:pt x="5273" y="20558"/>
                </a:lnTo>
                <a:close/>
              </a:path>
              <a:path fill="darken" w="21600" h="27486">
                <a:moveTo>
                  <a:pt x="12271" y="6928"/>
                </a:moveTo>
                <a:lnTo>
                  <a:pt x="16327" y="10427"/>
                </a:lnTo>
                <a:lnTo>
                  <a:pt x="12271" y="10427"/>
                </a:lnTo>
                <a:close/>
              </a:path>
            </a:pathLst>
          </a:cu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99280" y="5194440"/>
            <a:ext cx="587520" cy="718920"/>
          </a:xfrm>
          <a:custGeom>
            <a:avLst/>
            <a:gdLst>
              <a:gd name="textAreaLeft" fmla="*/ 37800 w 587520"/>
              <a:gd name="textAreaRight" fmla="*/ 549720 w 587520"/>
              <a:gd name="textAreaTop" fmla="*/ 37800 h 718920"/>
              <a:gd name="textAreaBottom" fmla="*/ 681120 h 718920"/>
            </a:gdLst>
            <a:ahLst/>
            <a:rect l="textAreaLeft" t="textAreaTop" r="textAreaRight" b="textAreaBottom"/>
            <a:pathLst>
              <a:path w="21600" h="26428">
                <a:moveTo>
                  <a:pt x="0" y="0"/>
                </a:moveTo>
                <a:lnTo>
                  <a:pt x="21600" y="0"/>
                </a:lnTo>
                <a:lnTo>
                  <a:pt x="21600" y="26428"/>
                </a:lnTo>
                <a:lnTo>
                  <a:pt x="0" y="26428"/>
                </a:lnTo>
                <a:close/>
              </a:path>
              <a:path fill="lightenLess" w="21600" h="264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28">
                <a:moveTo>
                  <a:pt x="21600" y="0"/>
                </a:moveTo>
                <a:lnTo>
                  <a:pt x="21600" y="26428"/>
                </a:lnTo>
                <a:lnTo>
                  <a:pt x="20200" y="25028"/>
                </a:lnTo>
                <a:lnTo>
                  <a:pt x="20200" y="1400"/>
                </a:lnTo>
                <a:close/>
              </a:path>
              <a:path fill="darkenLess" w="21600" h="26428">
                <a:moveTo>
                  <a:pt x="21600" y="26428"/>
                </a:moveTo>
                <a:lnTo>
                  <a:pt x="0" y="26428"/>
                </a:lnTo>
                <a:lnTo>
                  <a:pt x="1400" y="25028"/>
                </a:lnTo>
                <a:lnTo>
                  <a:pt x="20200" y="25028"/>
                </a:lnTo>
                <a:close/>
              </a:path>
              <a:path fill="lighten" w="21600" h="26428">
                <a:moveTo>
                  <a:pt x="0" y="264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28"/>
                </a:lnTo>
                <a:close/>
              </a:path>
              <a:path fill="darkenLess" w="21600" h="26428">
                <a:moveTo>
                  <a:pt x="5273" y="6399"/>
                </a:moveTo>
                <a:lnTo>
                  <a:pt x="12271" y="6399"/>
                </a:lnTo>
                <a:lnTo>
                  <a:pt x="16327" y="9898"/>
                </a:lnTo>
                <a:lnTo>
                  <a:pt x="16327" y="20029"/>
                </a:lnTo>
                <a:lnTo>
                  <a:pt x="5273" y="20029"/>
                </a:lnTo>
                <a:close/>
              </a:path>
              <a:path fill="darken" w="21600" h="26428">
                <a:moveTo>
                  <a:pt x="12271" y="6399"/>
                </a:moveTo>
                <a:lnTo>
                  <a:pt x="16327" y="9898"/>
                </a:lnTo>
                <a:lnTo>
                  <a:pt x="12271" y="9898"/>
                </a:lnTo>
                <a:close/>
              </a:path>
            </a:pathLst>
          </a:cu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Zusammenfassung zum Mater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inleitende Bemerku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Pocket-CASSY für Schülerversu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ührende Vers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inführung CASSY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inführung CASSY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peri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ersuchsanleitungen für 12 Praktikumsexperimente mit Fotos und ausgewählten Lösu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SY Lab 1 und CASSY Lab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ss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lle Messdateien der vorgestellten Versuche als CASSY-Lab-Datei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Modellbildung mit EXCEL und GT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s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Planarbeiten zum „Umgang mit unbekannten Formeln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544500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rgang und Sk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zugsquell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rerfortbildungs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a84d8"/>
                </a:solidFill>
                <a:uFillTx/>
                <a:latin typeface="Arial"/>
                <a:hlinkClick r:id="rId1"/>
              </a:rPr>
              <a:t>renner.michael@kabelbw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narbroschüre des Tübinger Seminars erscheint im Frühjah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zugsqu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18320" y="220356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a84d8"/>
                </a:solidFill>
                <a:uFillTx/>
                <a:latin typeface="Arial"/>
                <a:hlinkClick r:id="rId2"/>
              </a:rPr>
              <a:t>http://lehrerfortbildung-bw.de/faecher/physik/gym/fb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orksho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093080" y="236520"/>
            <a:ext cx="1593720" cy="1184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952800" y="458640"/>
            <a:ext cx="3140280" cy="368280"/>
          </a:xfrm>
          <a:prstGeom prst="rect">
            <a:avLst/>
          </a:prstGeom>
          <a:noFill/>
          <a:ln w="93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meldu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en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6080" y="1955880"/>
            <a:ext cx="154764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h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cket-CAS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82760" y="1955880"/>
            <a:ext cx="154008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nnlin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n Gerä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67280" y="1955880"/>
            <a:ext cx="1539720" cy="103644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lad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dens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1955880"/>
            <a:ext cx="1540080" cy="110808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schaltvo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Sp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24000" y="3567240"/>
            <a:ext cx="153972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ktion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ier F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3567240"/>
            <a:ext cx="154008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ktion b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ieren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67280" y="3567240"/>
            <a:ext cx="153972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ergiespa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m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3567240"/>
            <a:ext cx="154008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rieb e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24000" y="5175360"/>
            <a:ext cx="153972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win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pen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82760" y="5175360"/>
            <a:ext cx="154008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arb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e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67280" y="5175360"/>
            <a:ext cx="153972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krip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B-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53240" y="5175360"/>
            <a:ext cx="1539720" cy="1071360"/>
          </a:xfrm>
          <a:prstGeom prst="rect">
            <a:avLst/>
          </a:prstGeom>
          <a:solidFill>
            <a:srgbClr val="4f917e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ldungsplan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zen und Inha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mpressu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glieder der zentralen Projektgruppe Physi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D Joachim Friederich, Kepler-Gymnasium Pforzhe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D Florian Karsten, Seminar Stutt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. Franz Kranzinger, Seminar Stutt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D Michael Renner, Seminar Tüb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. Dr. Peter Schmälzle, Seminar Karlsru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D Dr. Markus Ziegler, Regierungsprädidium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aterialien dürfen im Rahmen der Fortbildungsmaßnahme eingesetzt und von den Multiplikatoren für ihren eigenen Einsatz angepass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aterialien stehen unter der Lizenz</a:t>
            </a:r>
            <a:br>
              <a:rPr sz="2000"/>
            </a:br>
            <a:r>
              <a:rPr b="0" lang="de-DE" sz="2000" spc="-1" strike="noStrike" u="sng">
                <a:solidFill>
                  <a:srgbClr val="0030f6"/>
                </a:solidFill>
                <a:uFillTx/>
                <a:latin typeface="Arial"/>
              </a:rPr>
              <a:t>http://creativecommons.org/licenses/by-nc-sa/3.0/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ezifisches Methodenrepertoire der Physi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las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SuS können computerunterstützte Messwerterfassungs- und Auswertesysteme im Praktikum </a:t>
            </a:r>
            <a:r>
              <a:rPr b="1" lang="de-DE" sz="2600" spc="-1" strike="noStrike">
                <a:solidFill>
                  <a:srgbClr val="891411"/>
                </a:solidFill>
                <a:latin typeface="Arial"/>
              </a:rPr>
              <a:t>unter Anleitun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einsetz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lasse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SuS können computerunterstützte Messwerterfassungs- und Auswertesysteme im Praktikum </a:t>
            </a:r>
            <a:r>
              <a:rPr b="1" lang="de-DE" sz="2600" spc="-1" strike="noStrike">
                <a:solidFill>
                  <a:srgbClr val="891411"/>
                </a:solidFill>
                <a:latin typeface="Arial"/>
              </a:rPr>
              <a:t>selbstständi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einsetz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716280"/>
            <a:ext cx="7704360" cy="2305080"/>
          </a:xfrm>
          <a:prstGeom prst="rect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27280" y="638172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zug zum Bildungs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Ziele der Arbei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zerwerb (Berührungsängs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au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itstellung direkt im Unterric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setzbaren Unterrichtsmaterials in Fo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es konkreten Umsetzungsbeis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en und Vorschlä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21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27280" y="638172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zug zum Bildungs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gründung des Vorgeh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werterfassungssystem – Experimentiermaterial – Versu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esswerterfassungs- und Auswerte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 beispielhaft für ein Messwerterfassungs- und Auswert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cket-CASSY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(„Schüler-CASSY“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: CASSY-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grü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angjährige Erfahrungen im eigenen Unterricht und der Referendarsausbild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iverselle Einsetzbarkeit: Physik, Chemie, Biologie, Nw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reits an vielen Schulen im Einsa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verlässigkeit, Bedienerfreundlichkeit, Erlernbar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pf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4888" t="6445" r="0" b="3469"/>
          <a:stretch/>
        </p:blipFill>
        <p:spPr>
          <a:xfrm>
            <a:off x="7451640" y="1700280"/>
            <a:ext cx="1263600" cy="90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93080" y="2637000"/>
            <a:ext cx="1008000" cy="749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27280" y="638172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Times New Roman"/>
              </a:rPr>
              <a:t>Pocket-CASS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 Analogei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lösung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2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btastrate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x. 7.800 Werte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zahl Messwerte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akt. unbegrenz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 Timereing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ählfrequenz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x. 10 k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eitauflösung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 µ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esszeit zwi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wei Ereignissen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n. 100 µ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peicher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x. 2.500 Zeitpunkte/Eing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 Digitaleingänge und 3 Digitalausg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888" t="6445" r="0" b="3469"/>
          <a:stretch/>
        </p:blipFill>
        <p:spPr>
          <a:xfrm>
            <a:off x="6084720" y="189000"/>
            <a:ext cx="2600640" cy="197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27280" y="638172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oftware CASSY La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SSY L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e Software: CASSY Lab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wnload im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Anschluss von CASSY-Hardware unbegrenzt nutzbar für Auswer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ür Schüler daheim nutz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r Messungen 20mal nutz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zahl vorgefertigter Messbei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27640" y="1324080"/>
            <a:ext cx="1069920" cy="795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443640" y="2060640"/>
            <a:ext cx="1008000" cy="82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6560" y="6408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ründung des Vorgeh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4:28:44Z</dcterms:created>
  <dc:creator>Michael Renner</dc:creator>
  <dc:description/>
  <dc:language>en-US</dc:language>
  <cp:lastModifiedBy>Ihr Benutzername</cp:lastModifiedBy>
  <dcterms:modified xsi:type="dcterms:W3CDTF">2011-01-30T14:03:28Z</dcterms:modified>
  <cp:revision>10</cp:revision>
  <dc:subject/>
  <dc:title>Modul II: Spezifisches Methodenrepertoire der Physik</dc:title>
</cp:coreProperties>
</file>